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0933-1602-4E4C-9FCA-C4C0E9ADE8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itoring – impact on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licability elsewhere – issues to take into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custGeom>
            <a:avLst/>
            <a:gdLst/>
            <a:ahLst/>
            <a:rect l="l" t="t" r="r" b="b"/>
            <a:pathLst>
              <a:path w="5712" h="816">
                <a:moveTo>
                  <a:pt x="0" y="0"/>
                </a:moveTo>
                <a:lnTo>
                  <a:pt x="0" y="576"/>
                </a:lnTo>
                <a:lnTo>
                  <a:pt x="5712" y="816"/>
                </a:lnTo>
                <a:lnTo>
                  <a:pt x="57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640" y="162000"/>
            <a:ext cx="3162240" cy="63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f7f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f7f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af7f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e1d1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f7f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af7f2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f7f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daf7f2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0007a"/>
              </a:buClr>
              <a:buSzPct val="8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f7f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daf7f2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daf7f2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f7f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daf7f2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daf7f2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f7f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22280"/>
            <a:ext cx="777240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ffd7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e5ffd7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295280"/>
          </a:xfrm>
          <a:custGeom>
            <a:avLst/>
            <a:gdLst/>
            <a:ahLst/>
            <a:rect l="l" t="t" r="r" b="b"/>
            <a:pathLst>
              <a:path w="5712" h="816">
                <a:moveTo>
                  <a:pt x="0" y="0"/>
                </a:moveTo>
                <a:lnTo>
                  <a:pt x="0" y="576"/>
                </a:lnTo>
                <a:lnTo>
                  <a:pt x="5712" y="816"/>
                </a:lnTo>
                <a:lnTo>
                  <a:pt x="57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640" y="162000"/>
            <a:ext cx="316224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Ethiopia Safety-Nets –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ave the Children experience</a:t>
            </a:r>
            <a:br>
              <a:rPr sz="4400"/>
            </a:br>
            <a:br>
              <a:rPr sz="4000"/>
            </a:br>
            <a:br>
              <a:rPr sz="4000"/>
            </a:br>
            <a:r>
              <a:rPr b="0" lang="en-GB" sz="2000" spc="-1" strike="noStrike">
                <a:solidFill>
                  <a:srgbClr val="daf7f2"/>
                </a:solidFill>
                <a:latin typeface="Arial"/>
              </a:rPr>
              <a:t>Heather Kindness</a:t>
            </a:r>
            <a:br>
              <a:rPr sz="2000"/>
            </a:br>
            <a:r>
              <a:rPr b="0" lang="en-GB" sz="2000" spc="-1" strike="noStrike">
                <a:solidFill>
                  <a:srgbClr val="daf7f2"/>
                </a:solidFill>
                <a:latin typeface="Arial"/>
              </a:rPr>
              <a:t>Food Security and Livelihoods Advisor, Save the Children UK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Program overview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98108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Cash program, Meket Woreda, Amhara Region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70,000 chronically food insecure people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Cash for work and gratuitous relief (for non-able bodied households and pregnant and lactating women)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Implementation started 2003 (pre and during PSNP)*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Cash transfer = amount it costs to buy 15kg staple food per person per month (for </a:t>
            </a:r>
            <a:r>
              <a:rPr b="0" lang="en-GB" sz="2400" spc="-1" strike="noStrike">
                <a:solidFill>
                  <a:srgbClr val="47c700"/>
                </a:solidFill>
                <a:latin typeface="Arial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 months) </a:t>
            </a:r>
            <a:r>
              <a:rPr b="0" lang="en-GB" sz="2400" spc="-1" strike="noStrike">
                <a:solidFill>
                  <a:srgbClr val="daf7f2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 in 2004 this was 25 birr (about USD 4) per beneficiary per month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Program overview (2)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Child nutrition focus: 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Caring practices of young children 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Relationship with household access to economic and human resources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</a:rPr>
              <a:t>Assessment methods: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</a:rPr>
              <a:t>Household expenditure data collected monthly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</a:rPr>
              <a:t>Household Economy Analysis impact assessment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</a:rPr>
              <a:t>Focus group discussions with female beneficiaries with children aged 6 – 24 months (most chronic malnutrition irreversible after this age)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Impac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Increased feeding frequency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Increased dietary diversity (wider variety of grains and  pulses; more livestock products and oil)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Greater ability to purchase soap and clothes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More timely access to medical care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Reduction in mothers’ time collecting firewood and dung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Lower migration rates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Indirect</a:t>
            </a: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 – livestock purchases (</a:t>
            </a:r>
            <a:r>
              <a:rPr b="0" lang="en-GB" sz="2400" spc="-1" strike="noStrike">
                <a:solidFill>
                  <a:srgbClr val="daf7f2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 income and coping)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7c7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47c7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47c700"/>
                </a:solidFill>
                <a:latin typeface="Arial"/>
                <a:ea typeface="Times New Roman"/>
              </a:rPr>
              <a:t>Would expect all these to improve children’s nutrition and health status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Size of chang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98108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No anthropometric data, but impact likely small because: 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Program relatively new – beneficiaries concerned it could stop at any time, so prioritised expenditure such as on livestock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Probable that women do not fully known how a well-nourished child should develop and why 0 – 24 months window </a:t>
            </a:r>
            <a:r>
              <a:rPr b="0" lang="en-GB" sz="2400" spc="-1" strike="noStrike">
                <a:solidFill>
                  <a:srgbClr val="daf7f2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 may be preventing expenditure prioritisation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Level of transfer (set according to food gap – not according to the cost of an adequate diet, minimum non food needs, typical health costs etc.) 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Replicability – lessons learn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9810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Objectives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Reducing food insecurity, malnutrition, poverty, other?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Livelihood protection, prevention and productive?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Is design appropriate to achieve all objectives? 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Implications for transfer levels, targeting, response package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Replicability – lessons learnt (2)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828800"/>
            <a:ext cx="83818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f7f2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Design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Good livelihood analysis, to inform: 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Targeting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Relevance of responses (eg. public works design in – whether would work in pastoral areas </a:t>
            </a:r>
            <a:r>
              <a:rPr b="0" lang="en-GB" sz="2000" spc="-1" strike="noStrike">
                <a:solidFill>
                  <a:srgbClr val="daf7f2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 difficulty of targeting moving people + issue of existing traditional safety nets)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Recognising the long-term dependent chronically poor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Productive component 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- Links between transfers and other food security elements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- Household assets versus community assets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- Graduation issues (what does it mean, what’s needed)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Replicability – lessons learnt (3)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Transfer levels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For different objectives – eg. considering the cost of an adequate diet (kcal and micronutrients)?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Differential transfers / wage rates within and across regions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Flexible duration of transfers (different levels of vulnerability geographically, and different vulnerable groups within areas)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Varying wage rates with price changes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224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daf7f2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Transfer types - cash or food or mix?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Consistent preference – cash when = value or more than food   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Context specific assessment, dependent on number of factors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Impact of cash payments on the market – not addressed, important issue, particularly for replication &amp; large-scale projects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5:05:56Z</dcterms:created>
  <dc:creator>--</dc:creator>
  <dc:description/>
  <dc:language>en-US</dc:language>
  <cp:lastModifiedBy>COE</cp:lastModifiedBy>
  <cp:lastPrinted>2003-02-26T16:36:03Z</cp:lastPrinted>
  <dcterms:modified xsi:type="dcterms:W3CDTF">2007-03-13T08:12:06Z</dcterms:modified>
  <cp:revision>230</cp:revision>
  <dc:subject/>
  <dc:title>Vision</dc:title>
</cp:coreProperties>
</file>